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31FA-4E0D-4A50-8C15-AEC09E2A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EABD-C13F-4792-A852-5E67D953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2771-5897-4689-AE61-8DCC8F78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D5F3-EBAF-412A-B8EE-F0A663B44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5606-CE46-44E6-B6C6-D326119D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6124-0EB3-4168-AC85-80FE7F88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79A6-BB9F-479A-A6F2-C6CCE3F4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DF0C-115F-4449-9CD6-B551ED47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F838-7974-4973-8A90-BAC8295C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608A-CBDA-41CD-9832-5BA18565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E74F-0BED-4F88-8B67-014EBBAF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063D-84BD-4E39-8341-C9089AD9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1C12-EC1B-445F-93E4-3DA74F0ADD5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03640" y="301680"/>
            <a:ext cx="46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- Tree: Lawful Int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51680" y="5680080"/>
            <a:ext cx="1825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5811840"/>
            <a:ext cx="11124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627000" y="5943600"/>
            <a:ext cx="3445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44720" y="51814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8400" y="896760"/>
            <a:ext cx="5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itt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64360" y="23004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26200" y="4983120"/>
            <a:ext cx="3179520" cy="573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2960" y="44290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08320" y="47070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924280" y="1146240"/>
            <a:ext cx="8222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47148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4652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46520" y="1146240"/>
            <a:ext cx="10065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63640" y="1876320"/>
            <a:ext cx="1189080" cy="824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196800" y="2700360"/>
            <a:ext cx="3668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2700360"/>
            <a:ext cx="457200" cy="5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64000" y="3247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21200" y="3247920"/>
            <a:ext cx="639720" cy="64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197160" y="3889440"/>
            <a:ext cx="14637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111560" y="3889440"/>
            <a:ext cx="54936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60920" y="3889440"/>
            <a:ext cx="639720" cy="109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60920" y="3889440"/>
            <a:ext cx="127944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32120" y="4619520"/>
            <a:ext cx="36504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374920" y="51688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654360" y="47116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975120" y="4986360"/>
            <a:ext cx="1325520" cy="94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25600" y="4986360"/>
            <a:ext cx="27468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00640" y="4986360"/>
            <a:ext cx="763560" cy="56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00640" y="4986360"/>
            <a:ext cx="1736640" cy="67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57480" y="4437000"/>
            <a:ext cx="182520" cy="3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46200" y="1368360"/>
            <a:ext cx="144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dentified-organization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4720" y="2192400"/>
            <a:ext cx="50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tsi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5920" y="2801880"/>
            <a:ext cx="111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ecurityDomain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3840" y="3335400"/>
            <a:ext cx="58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raud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5400" y="3335400"/>
            <a:ext cx="106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wfulIntercept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5600" y="432576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1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7360" y="440208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2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85320" y="440532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3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0560" y="4021200"/>
            <a:ext cx="50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m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86600" y="4786200"/>
            <a:ext cx="137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otificationOperation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7880" y="5102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74480" y="467676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75000" y="44560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46160" y="50911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284640" y="5931000"/>
            <a:ext cx="690480" cy="3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41120" y="5985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63640" y="5802480"/>
            <a:ext cx="568440" cy="66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22360" y="5894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45120" y="5559480"/>
            <a:ext cx="27000" cy="919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68680" y="57564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659640" y="5676840"/>
            <a:ext cx="37152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68600" y="5748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01800" y="5530680"/>
            <a:ext cx="71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ircuitLI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93440" y="5521320"/>
            <a:ext cx="75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ETRALI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82280" y="5435640"/>
            <a:ext cx="71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PRSLI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63560" y="5216400"/>
            <a:ext cx="70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linkLI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8236080" y="5553000"/>
            <a:ext cx="280800" cy="736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86360" y="572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32120" y="4894200"/>
            <a:ext cx="65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gSMLI(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01920" y="4470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82520" y="518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95400" y="61786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35320" y="60865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00640" y="5904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76240" y="3886200"/>
            <a:ext cx="3772080" cy="790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200" y="4408560"/>
            <a:ext cx="41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0000"/>
                </a:solidFill>
                <a:latin typeface="Times New Roman"/>
              </a:rPr>
              <a:t>3G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724280"/>
            <a:ext cx="466560" cy="409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4840" y="4695840"/>
            <a:ext cx="561960" cy="4190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866880" y="4705200"/>
            <a:ext cx="38160" cy="4478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61440" y="485136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4880" y="487980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3200" y="477504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57200" y="5143680"/>
            <a:ext cx="409680" cy="304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1480" y="5505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1:46:07Z</dcterms:created>
  <dc:creator>Wolfgang Schumacher</dc:creator>
  <dc:description/>
  <dc:language>en-US</dc:language>
  <cp:lastModifiedBy>m.b.</cp:lastModifiedBy>
  <cp:lastPrinted>2000-11-29T10:02:02Z</cp:lastPrinted>
  <dcterms:modified xsi:type="dcterms:W3CDTF">2002-01-30T15:15:58Z</dcterms:modified>
  <cp:revision>39</cp:revision>
  <dc:subject/>
  <dc:title>Kein Folientitel</dc:title>
</cp:coreProperties>
</file>